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D1B-F2B5-4525-BBB1-56B24EA2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ACA-62E8-4E7C-A1EC-4D245E3A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3EA-4A9C-4832-8F16-93494571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A01-3AAA-4489-8E4B-CB157D15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6C7-1C86-468B-886A-7A8B980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A28-5F5B-47A3-9C5E-E23B412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E77-9699-4E7B-9731-175DCA9E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F0B-2F37-450E-8D5B-D153722A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ED8-A452-4C35-99FC-DD4ACA6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CA1-5050-4836-8A20-4DDA516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006-0343-4F7E-A0E8-A3448CB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5E-0E4F-4C05-BB3C-06278F5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107-2DD6-47D2-945C-2785A53F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" Target="slide42.xml"/><Relationship Id="rId40" Type="http://schemas.openxmlformats.org/officeDocument/2006/relationships/slide" Target="slide42.xml"/><Relationship Id="rId41" Type="http://schemas.openxmlformats.org/officeDocument/2006/relationships/slide" Target="slide44.xml"/><Relationship Id="rId42" Type="http://schemas.openxmlformats.org/officeDocument/2006/relationships/slide" Target="slide44.xml"/><Relationship Id="rId43" Type="http://schemas.openxmlformats.org/officeDocument/2006/relationships/slide" Target="slide44.xml"/><Relationship Id="rId44" Type="http://schemas.openxmlformats.org/officeDocument/2006/relationships/slide" Target="slide46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50.xml"/><Relationship Id="rId48" Type="http://schemas.openxmlformats.org/officeDocument/2006/relationships/slide" Target="slide50.xml"/><Relationship Id="rId49" Type="http://schemas.openxmlformats.org/officeDocument/2006/relationships/slide" Target="slide2.xml"/><Relationship Id="rId50" Type="http://schemas.openxmlformats.org/officeDocument/2006/relationships/slide" Target=""/><Relationship Id="rId5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’Acc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s Ad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 Plac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s Ad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Images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 Jo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et 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Expre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 Jo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et 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Verbes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Réfléc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28840" y="810360"/>
            <a:ext cx="62481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500" spc="-1" strike="noStrike">
                <a:solidFill>
                  <a:srgbClr val="000000"/>
                </a:solidFill>
                <a:latin typeface="Times New Roman"/>
              </a:rPr>
              <a:t>Ce pommier est un </a:t>
            </a:r>
            <a:br>
              <a:rPr sz="8500"/>
            </a:br>
            <a:r>
              <a:rPr b="1" lang="fr-CA" sz="8500" spc="-1" strike="noStrike">
                <a:solidFill>
                  <a:srgbClr val="000000"/>
                </a:solidFill>
                <a:latin typeface="Times New Roman"/>
              </a:rPr>
              <a:t>_____(beau) arbre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357200" y="45684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 pommier est un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bel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arbr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47920" y="3200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0" y="571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Ce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_____ animal _____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(petit)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me donne de plaisir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28840" y="6688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Ce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petit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animal me donne de plaisir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0" y="642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Vous êtes des </a:t>
            </a:r>
            <a:br>
              <a:rPr sz="8800"/>
            </a:b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____ soeurs _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(gentil)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47920" y="134172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Vous êtes des 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Times New Roman"/>
              </a:rPr>
              <a:t>gentilles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soeur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Mon </a:t>
            </a:r>
            <a:br>
              <a:rPr sz="8800"/>
            </a:b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___ ami 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(fort, jeune) aime jouer au rugb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28840" y="6688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Mon </a:t>
            </a:r>
            <a:r>
              <a:rPr b="1" lang="fr-CA" sz="8800" spc="-1" strike="noStrike" u="sng">
                <a:solidFill>
                  <a:srgbClr val="ffff00"/>
                </a:solidFill>
                <a:uFillTx/>
                <a:latin typeface="Times New Roman"/>
              </a:rPr>
              <a:t>jeune</a:t>
            </a: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 ami </a:t>
            </a:r>
            <a:r>
              <a:rPr b="1" lang="fr-CA" sz="8800" spc="-1" strike="noStrike" u="sng">
                <a:solidFill>
                  <a:srgbClr val="ffff00"/>
                </a:solidFill>
                <a:uFillTx/>
                <a:latin typeface="Times New Roman"/>
              </a:rPr>
              <a:t>fort</a:t>
            </a: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 aime jouer au rugb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71680" y="357120"/>
            <a:ext cx="8143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Cette </a:t>
            </a:r>
            <a:br>
              <a:rPr sz="8800"/>
            </a:b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____ dame ____ (vieux) </a:t>
            </a:r>
            <a:br>
              <a:rPr sz="8800"/>
            </a:b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aime les opéra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47920" y="120492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tt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vielle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dame aime les opéra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123948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 garçon est ___________ (populaire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0" y="5000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La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_____ solution _____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(intelligent, bon) 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est de ne faire ri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0012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bonne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solution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intelligente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est de ne faire ri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757520" y="500040"/>
            <a:ext cx="54576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162080" y="806040"/>
            <a:ext cx="7192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au </a:t>
            </a:r>
            <a:br>
              <a:rPr sz="13800"/>
            </a:b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-3557520" y="-1981080"/>
            <a:ext cx="16259040" cy="1082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57200" y="244440"/>
            <a:ext cx="624852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du piano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5075280" cy="50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28840" y="30240"/>
            <a:ext cx="624816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de la batterie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http://3.bp.blogspot.com/-uJ85UuybPJE/Uht-Yy2OdAI/AAAAAAAAHiw/ywKB0GPgru4/s1600/video+games.jpg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473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500120" y="596160"/>
            <a:ext cx="624852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Jouer aux jeux vidéo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47920" y="140508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Ce garçon est 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Times New Roman"/>
              </a:rPr>
              <a:t>populair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41200" y="716760"/>
            <a:ext cx="69152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Faire de </a:t>
            </a:r>
            <a:br>
              <a:rPr sz="11500"/>
            </a:b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la planche </a:t>
            </a:r>
            <a:br>
              <a:rPr sz="11500"/>
            </a:b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à neige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28840" y="4546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Mes amis ne _______ pas ____ hocke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00120" y="2422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Mes amis n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jou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pas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au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hockey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428840" y="242280"/>
            <a:ext cx="624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Est-ce que tu _____ _____ violo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00120" y="31320"/>
            <a:ext cx="624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Est-ce que tu </a:t>
            </a:r>
            <a:r>
              <a:rPr b="1" lang="fr-CA" sz="10800" spc="-1" strike="noStrike" u="sng">
                <a:solidFill>
                  <a:srgbClr val="000000"/>
                </a:solidFill>
                <a:uFillTx/>
                <a:latin typeface="Times New Roman"/>
              </a:rPr>
              <a:t>joues</a:t>
            </a: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10800" spc="-1" strike="noStrike" u="sng">
                <a:solidFill>
                  <a:srgbClr val="000000"/>
                </a:solidFill>
                <a:uFillTx/>
                <a:latin typeface="Times New Roman"/>
              </a:rPr>
              <a:t>du</a:t>
            </a: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 violon?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500120" y="52812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ffff00"/>
                </a:solidFill>
                <a:latin typeface="Times New Roman"/>
              </a:rPr>
              <a:t>Nous _____ ___ achats chaque fin de semain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28840" y="32400"/>
            <a:ext cx="62481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Nous </a:t>
            </a:r>
            <a:r>
              <a:rPr b="1" lang="fr-CA" sz="9000" spc="-1" strike="noStrike" u="sng">
                <a:solidFill>
                  <a:srgbClr val="ffff00"/>
                </a:solidFill>
                <a:uFillTx/>
                <a:latin typeface="Times New Roman"/>
              </a:rPr>
              <a:t>faisons</a:t>
            </a: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9000" spc="-1" strike="noStrike" u="sng">
                <a:solidFill>
                  <a:srgbClr val="ffff00"/>
                </a:solidFill>
                <a:uFillTx/>
                <a:latin typeface="Times New Roman"/>
              </a:rPr>
              <a:t>des</a:t>
            </a: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 achats chaque fin de semaine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1476360" y="285840"/>
            <a:ext cx="640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Ta sœur et toi_________   ______  ski alpi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00120" y="280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Ta sœur et toi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faites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du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ski alpi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3"/>
          <p:cNvGraphicFramePr/>
          <p:nvPr/>
        </p:nvGraphicFramePr>
        <p:xfrm>
          <a:off x="1523880" y="137160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4"/>
          <p:cNvSpPr/>
          <p:nvPr/>
        </p:nvSpPr>
        <p:spPr>
          <a:xfrm>
            <a:off x="612000" y="1514880"/>
            <a:ext cx="809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Les écrivains sont </a:t>
            </a:r>
            <a:br>
              <a:rPr sz="6600"/>
            </a:b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vraiment très </a:t>
            </a:r>
            <a:br>
              <a:rPr sz="6600"/>
            </a:b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___________ (créatif)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3275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Auguste et Claude ________   _____ jeux vidéo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9640" y="28080"/>
            <a:ext cx="7834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Auguste et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laud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jou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600"/>
            </a:b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aux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jeux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vidéo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00120" y="240840"/>
            <a:ext cx="624852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500" spc="-1" strike="noStrike">
                <a:solidFill>
                  <a:srgbClr val="000000"/>
                </a:solidFill>
                <a:latin typeface="Times New Roman"/>
              </a:rPr>
              <a:t>Est-ce que tu ___________ (se peigner) les cheveux chaque matin?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35720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Est-ce que tu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te peignes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les cheveux chaque mati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50012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Certains garçons ne _______ pas (se raser) le mati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-142920" y="-282240"/>
            <a:ext cx="928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rtains garçons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se ras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pas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le matin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28840" y="2988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Je __________ (se maquiller) devant le miroir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86200" y="1155960"/>
            <a:ext cx="887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me maquille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devant le miroir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428840" y="148680"/>
            <a:ext cx="624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Times New Roman"/>
              </a:rPr>
              <a:t>Nous _____________ (se dépêcher) tous les matins pour aller à l’éco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428840" y="2988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Nous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nous dépêchons</a:t>
            </a: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 tous les matins pour aller à l’écol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28840" y="1446480"/>
            <a:ext cx="6248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Les écrivains sont vraiment très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créatifs</a:t>
            </a: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500120" y="27720"/>
            <a:ext cx="6248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600" spc="-1" strike="noStrike">
                <a:solidFill>
                  <a:srgbClr val="000000"/>
                </a:solidFill>
                <a:latin typeface="Times New Roman"/>
              </a:rPr>
              <a:t>Tyler et Marie ne ________ pas (se lever) à sept heures du matin.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Tyler et Marie ne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se lèvent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pas à sept heures du mati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124632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Les filles semblent ____________ (fatigué)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57200" y="1163520"/>
            <a:ext cx="624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Les filles semblent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fatigué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28840" y="31536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Céline Dion est une chanteuse ___________ (canadien)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71760" y="809280"/>
            <a:ext cx="6248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Céline Dion est une chanteuse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canadienn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Biega, Sarah</cp:lastModifiedBy>
  <dcterms:modified xsi:type="dcterms:W3CDTF">2014-10-08T11:38:38Z</dcterms:modified>
  <cp:revision>77</cp:revision>
  <dc:subject/>
  <dc:title>No Slide Title</dc:title>
</cp:coreProperties>
</file>